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BB006.WAV" ContentType="audio/x-wav"/>
  <Override PartName="/ppt/media/image5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D284-10F4-4651-A3F5-834C5EE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B535-9DB8-4A63-B7B1-7CC2468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958A-7C3E-430C-B811-A22E7E94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9736-3E8E-4545-9052-4F425AD4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4F9B-BC9E-49D9-ACFB-F80EA1C8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717-37D5-44A4-8CFD-BAE8804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37D-6538-4DF7-921B-5680E753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E4C6-43EC-47A4-8CF5-DBD9694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92FB-65FA-44CC-8F2C-6502778F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16D-2230-4ACA-B31F-4BED3825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9D6C-43F2-415A-9360-63C9BC0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AB95-F29F-4ABD-BFCC-AFEFA927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B81-9A0C-42C6-9009-EECC6AE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E04-114B-4F5F-A10A-7471CC4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124D-5C29-47A9-96C0-E0BB1AB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7F3C-5FA2-4992-9237-560B986E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FCB-2054-4980-A9B8-3CC7535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B3B1-31D0-40D3-A307-ED606DF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0F60-6BED-4510-8031-A5FC48B0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7035-298F-41AC-801C-5D8CE8FF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C663-1A56-490C-BB00-7CE55B6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CDDE-8FE7-4122-8E4A-495C530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9581-8167-442E-A37D-026773A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B443-D02E-4B2D-900A-009813E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EC4-6D10-48CA-96E8-5A9FAF9B6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B09-1DA7-41FD-B6CD-D6C3AEF25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B006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audio" Target="../media/BB006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6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audio" Target="../media/BB006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6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BB006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6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audio" Target="../media/BB006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6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audio" Target="../media/BB006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B006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audio" Target="../media/BB006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BB006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92360" y="0"/>
            <a:ext cx="7451640" cy="6858000"/>
          </a:xfrm>
          <a:prstGeom prst="rect">
            <a:avLst/>
          </a:prstGeom>
          <a:solidFill>
            <a:srgbClr val="ff99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3760" y="1483920"/>
            <a:ext cx="3809880" cy="1684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1100" spc="-1" strike="noStrike">
                <a:solidFill>
                  <a:srgbClr val="800000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11100" spc="-1" strike="noStrike">
                <a:solidFill>
                  <a:srgbClr val="800000"/>
                </a:solidFill>
                <a:latin typeface="Angsana New"/>
                <a:ea typeface="KodchiangUPC"/>
              </a:rPr>
              <a:t>5</a:t>
            </a:r>
            <a:endParaRPr b="0" lang="en-US" sz="1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3645000"/>
            <a:ext cx="7200720" cy="201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ff"/>
                </a:solidFill>
                <a:latin typeface="Angsana New"/>
                <a:cs typeface="LilyUPC"/>
              </a:rPr>
              <a:t>ตัวต้านทาน ตัวเหนี่ยวน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ff"/>
                </a:solidFill>
                <a:latin typeface="Angsana New"/>
                <a:cs typeface="LilyUPC"/>
              </a:rPr>
              <a:t>และตัวเก็บประจ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horz"/>
    <p:sndAc>
      <p:stSnd>
        <p:snd r:embed="rId3" name="BB00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3280" y="692280"/>
            <a:ext cx="720072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cc00"/>
                </a:solidFill>
                <a:latin typeface="Arial"/>
                <a:cs typeface="LilyUPC"/>
              </a:rPr>
              <a:t>ตัวเหนี่ยวนำต่อ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8000" y="5229000"/>
            <a:ext cx="6994800" cy="99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LilyUPC"/>
              </a:rPr>
              <a:t> </a:t>
            </a:r>
            <a:r>
              <a:rPr b="1" i="1" lang="hi-IN" sz="3200" spc="-1" strike="noStrike">
                <a:solidFill>
                  <a:srgbClr val="ffcc00"/>
                </a:solidFill>
                <a:latin typeface="Arial"/>
                <a:cs typeface="LilyUPC"/>
              </a:rPr>
              <a:t>รูปวงจรตัวเหนี่ยวนำต่ออนุกรม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หนี่ยวนำต่ออนุ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835280" y="1989000"/>
            <a:ext cx="6984720" cy="29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156360" y="4365720"/>
            <a:ext cx="2200320" cy="8254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0080" y="4365720"/>
            <a:ext cx="207360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5" name="BB006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63800" y="1268280"/>
                <a:ext cx="3780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60880" y="2276640"/>
                <a:ext cx="2984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76720" y="3284640"/>
                <a:ext cx="2950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76720" y="4221000"/>
                <a:ext cx="4111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  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หนี่ยวนำต่ออนุ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4" name="BB006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0"/>
            <a:ext cx="531036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การแบ่งส่วนตลาดกับพฤติกรรมผู้บริโภค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แปรที่สำคัญ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619308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52388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i="1" lang="hi-IN" sz="4800" spc="-1" strike="noStrike">
                <a:solidFill>
                  <a:srgbClr val="ffcc00"/>
                </a:solidFill>
                <a:latin typeface="Arial"/>
                <a:cs typeface="LilyUPC"/>
              </a:rPr>
              <a:t>ตัวเก็บประจุต่อ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68000" y="544464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ffcc00"/>
                </a:solidFill>
                <a:latin typeface="Arial"/>
                <a:cs typeface="LilyUPC"/>
              </a:rPr>
              <a:t>รูปวงจรตัวเก็บประจุต่ออนุกรมในวงจรไฟฟ้ากระแสสล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25720" y="4797360"/>
            <a:ext cx="207360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57720" y="4797360"/>
            <a:ext cx="318780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6408720" cy="2808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hecker dir="horz"/>
    <p:sndAc>
      <p:stSnd>
        <p:snd r:embed="rId5" name="BB006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0"/>
            <a:ext cx="531036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การแบ่งส่วนตลาดกับพฤติกรรมผู้บริโภค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ประโยชน์การแบ่งส่วนตลา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1052640"/>
                <a:ext cx="32112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419640" y="2421000"/>
                <a:ext cx="33987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419640" y="3357720"/>
                <a:ext cx="2727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419640" y="4292640"/>
                <a:ext cx="4630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 advTm="30000">
    <p:checker dir="horz"/>
    <p:sndAc>
      <p:stSnd>
        <p:snd r:embed="rId4" name="BB006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050560" y="5516640"/>
            <a:ext cx="6696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ตัวต้านทาน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0"/>
            <a:ext cx="83844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908000" y="764640"/>
            <a:ext cx="6994800" cy="106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cc00"/>
                </a:solidFill>
                <a:latin typeface="Angsana New"/>
                <a:cs typeface="LilyUPC"/>
              </a:rPr>
              <a:t>ตัวต้านทานในวงจรไฟฟ้ากระแสสลั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050920" y="2133720"/>
            <a:ext cx="6697800" cy="302400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6248520" y="4365720"/>
            <a:ext cx="264024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000" y="4191120"/>
            <a:ext cx="169380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23440" y="4653000"/>
            <a:ext cx="184320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รูปสัญญา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5" name="BB006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16360" y="1557360"/>
                <a:ext cx="3960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16360" y="3357720"/>
                <a:ext cx="395100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4" name="BB006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908000" y="2133720"/>
            <a:ext cx="6840720" cy="2809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63280" y="5516640"/>
            <a:ext cx="698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i="1" lang="hi-IN" sz="36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ตัวเหนี่ยวนำในวงจรไฟฟ้ากระแสสลั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763640" y="765000"/>
            <a:ext cx="693432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cc00"/>
                </a:solidFill>
                <a:latin typeface="Arial"/>
                <a:cs typeface="LilyUPC"/>
              </a:rPr>
              <a:t>ตัวเหนี่ยวนำในวงจรไฟฟ้ากระแสสลั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หนี่ยวนำ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4724280"/>
            <a:ext cx="151164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52160" y="4724280"/>
            <a:ext cx="184320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รูปสัญญา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4724280"/>
            <a:ext cx="189540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5" name="BB006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203640" y="1484280"/>
                <a:ext cx="298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  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f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03640" y="2349360"/>
                <a:ext cx="3355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03640" y="3860640"/>
                <a:ext cx="4289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f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หนี่ยวนำ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4" name="BB006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06788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cc00"/>
                </a:solidFill>
                <a:latin typeface="Arial"/>
                <a:cs typeface="LilyUPC"/>
              </a:rPr>
              <a:t>ตัวเก็บประจุในวงจรไฟฟ้ากระแสสลั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23640" y="5516280"/>
            <a:ext cx="5977080" cy="64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cc00"/>
                </a:solidFill>
                <a:latin typeface="Arial"/>
                <a:cs typeface="LilyUPC"/>
              </a:rPr>
              <a:t>รูปตัวเก็บประจุ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35040" y="4581360"/>
            <a:ext cx="199440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1440" y="4581360"/>
            <a:ext cx="216972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รูปสัญญา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0400" y="4581360"/>
            <a:ext cx="3125160" cy="459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ก็บประจุ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732720" y="2637000"/>
            <a:ext cx="2195280" cy="172872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3456000" cy="21970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826920" y="2565360"/>
            <a:ext cx="2283120" cy="172872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</p:spTree>
  </p:cSld>
  <p:transition spd="slow" advTm="30000">
    <p:checker dir="horz"/>
    <p:sndAc>
      <p:stSnd>
        <p:snd r:embed="rId7" name="BB006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64000" y="1484280"/>
                <a:ext cx="31701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64000" y="2781360"/>
                <a:ext cx="3357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64000" y="4221000"/>
                <a:ext cx="4140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  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เก็บประจุในวงจรไฟฟ้ากระแสสลั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3" name="BB006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5472360" cy="120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ffcc00"/>
                </a:solidFill>
                <a:latin typeface="Arial"/>
                <a:cs typeface="LilyUPC"/>
              </a:rPr>
              <a:t>ตัวต้านทานต่ออนุกร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339640" y="5373360"/>
            <a:ext cx="6335640" cy="93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LilyUPC"/>
              </a:rPr>
              <a:t> </a:t>
            </a:r>
            <a:r>
              <a:rPr b="1" i="1" lang="hi-IN" sz="3200" spc="-1" strike="noStrike">
                <a:solidFill>
                  <a:srgbClr val="ffcc00"/>
                </a:solidFill>
                <a:latin typeface="Arial"/>
                <a:cs typeface="LilyUPC"/>
              </a:rPr>
              <a:t>รูปวงจรตัวต้านทานต่ออนุกรมในวงจรไฟฟ้ากระแสสล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ต่ออนุ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763640" y="1916280"/>
            <a:ext cx="7128000" cy="3241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52800" y="3500280"/>
            <a:ext cx="262656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ffffff"/>
                </a:solidFill>
                <a:latin typeface="Angsana New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0000" y="4549680"/>
            <a:ext cx="1693800" cy="39888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ffffff"/>
                </a:solidFill>
                <a:latin typeface="Angsana New"/>
              </a:rPr>
              <a:t>วงจรไฟฟ้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5" name="BB006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47640" y="0"/>
            <a:ext cx="759636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28235"/>
                </a:srgbClr>
              </a:gs>
              <a:gs pos="50000">
                <a:srgbClr val="754600">
                  <a:alpha val="89019"/>
                </a:srgbClr>
              </a:gs>
              <a:gs pos="100000">
                <a:srgbClr val="ff9900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327480" y="1195560"/>
                <a:ext cx="38592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51280" y="2133720"/>
                <a:ext cx="287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14920" y="3068640"/>
                <a:ext cx="4032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  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4653000"/>
                <a:ext cx="2558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0"/>
            <a:ext cx="5894280" cy="7038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 ตัวเหนี่ยวนำ และตัวเก็บประจ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ngsanaUPC"/>
              </a:rPr>
              <a:t>/</a:t>
            </a:r>
            <a:r>
              <a:rPr b="1" lang="hi-IN" sz="2000" spc="-1" strike="noStrike">
                <a:solidFill>
                  <a:srgbClr val="000000"/>
                </a:solidFill>
                <a:latin typeface="Arial Narrow"/>
                <a:cs typeface="AngsanaUPC"/>
              </a:rPr>
              <a:t>ตัวต้านทานต่ออนุ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hecker dir="horz"/>
    <p:sndAc>
      <p:stSnd>
        <p:snd r:embed="rId4" name="BB006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8:44:31Z</dcterms:created>
  <dc:creator>ADMIN</dc:creator>
  <dc:description/>
  <dc:language>en-US</dc:language>
  <cp:lastModifiedBy>พี่อุอุ๊</cp:lastModifiedBy>
  <dcterms:modified xsi:type="dcterms:W3CDTF">2005-11-14T03:00:02Z</dcterms:modified>
  <cp:revision>45</cp:revision>
  <dc:subject/>
  <dc:title>งานนำเสนอ PowerPoint</dc:title>
</cp:coreProperties>
</file>